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740-50F0-4D68-AAAF-EAF1DF7D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31D-F09E-4D2E-BB02-24BCCB8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37F-343F-4B37-A843-24412C52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321-0CB6-4FE2-95D5-CA91DE6C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17E-971F-4582-AACA-517ADEE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BF1-9662-4C38-A790-84C12BD9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79B-E079-4A2F-B612-BBF44D4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009-E9E8-4C8F-B33E-FD10180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DA7-1B9B-4E94-A875-4552FB1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BA5-3574-4E51-AE36-42FC6BE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EA5-5F34-4740-804F-C8891A94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CEB-F553-4F45-A420-88DB09B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7AD-7866-45AB-A4C0-AF6255A6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ugustafreepress.files.wordpress.com/2008/04/theater-clipart.jpg&amp;imgrefurl=http://augustafreepress.com/tag/theater-at-lime-kiln/&amp;usg=__o8ZQUhJ9ik-pBppSVyaQ1Xv2CpM=&amp;h=128&amp;w=130&amp;sz=6&amp;hl=en&amp;start=9&amp;tbnid=YDx6iyV1gP6-PM:&amp;tbnh=90&amp;tbnw=91&amp;prev=/images%3Fq%3Dtheatre%2Bclipart%26gbv%3D2%26hl%3Den%26safe%3Dstrict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webweaver.nu/clipart/img/entertainment/video/directors-chair.jpg&amp;imgrefurl=http://www.webweaver.nu/clipart/film3.shtml&amp;usg=__kHEvVQcfvLpZ_kxs5mnUvQuYa4Q=&amp;h=391&amp;w=325&amp;sz=69&amp;hl=en&amp;start=1&amp;tbnid=ptjrEOzcCpiqjM:&amp;tbnh=123&amp;tbnw=102&amp;prev=/images%3Fq%3Dtheatre%2Bclipart%26gbv%3D2%26hl%3Den%26safe%3Dstric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princeton.edu/sites/ehs/theatersafety/intro.htm#EH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cine.iu.edu/images/postdocaff/exit_lg.jpg&amp;imgrefurl=http://www.postdoc.medicine.iu.edu/body.cfm%3Fid%3D8061%26oTopID%3D7698&amp;usg=__qyOdVGtE_Km8oHnpmEhDovGIIoE=&amp;h=324&amp;w=432&amp;sz=12&amp;hl=en&amp;start=5&amp;tbnid=jP5q_HkjMGGuQM:&amp;tbnh=95&amp;tbnw=126&amp;prev=/images%3Fq%3Dexit%26gbv%3D2%26hl%3Den%26safe%3Dstrict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freefoto.com/images/33/15/33_15_15---Fire-Flame-Texture_web.jpg&amp;imgrefurl=http://www.freefoto.com/preview/33-15-15%3Fffid%3D33-15-15&amp;usg=__E2h7jt6XjXumVwDUlE1TE-zJe-4=&amp;h=400&amp;w=600&amp;sz=96&amp;hl=en&amp;start=3&amp;tbnid=1mnEVTdPcKNU0M:&amp;tbnh=90&amp;tbnw=135&amp;prev=/images%3Fq%3Dfire%26gbv%3D2%26hl%3Den%26safe%3Dstrict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ctcog.org/graphics/programs/911/CPS3%2520no%2520bkgrnd.jpg&amp;imgrefurl=http://wctcog.org/wctcog/911_cell_safety.php&amp;usg=__ZCxkolfx7BXLmHPf5BRPIZSfmMQ=&amp;h=380&amp;w=268&amp;sz=90&amp;hl=en&amp;start=3&amp;tbnid=CAICJ8eEGX_V3M:&amp;tbnh=123&amp;tbnw=87&amp;prev=/images%3Fq%3Dphone%26imgcolor%3Dpink%26imgtbs%3Dtcl%26imgtype%3Dclipart%26gbv%3D2%26hl%3Den%26safe%3Dstrict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dailygreen.com/cm/thedailygreen/images/no/voc-free-paint-tip-lg.jpg&amp;imgrefurl=http://www.thedailygreen.com/green-homes/eco-friendly/indoor-air-pollution-47020404&amp;usg=__me3d37KMM7FuzOqt14bmABQak6s=&amp;h=360&amp;w=460&amp;sz=20&amp;hl=en&amp;start=1&amp;tbnid=zzmEd0aVVXVZrM:&amp;tbnh=100&amp;tbnw=128&amp;prev=/images%3Fq%3Dpaint%26gbv%3D2%26hl%3Den%26safe%3Dstric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typaper.com/sb/117807/theater.jpg&amp;imgrefurl=http://www.citypaper.com/special/default.asp%3FissueDate%3D5/23/2007&amp;usg=__iJrEgJxYJeoNGHyphcPZkE6b9Bs=&amp;h=341&amp;w=300&amp;sz=68&amp;hl=en&amp;start=14&amp;tbnid=HRuQagkNAa2E0M:&amp;tbnh=120&amp;tbnw=106&amp;prev=/images%3Fq%3Dhistory%2Bof%2Btheatre%2Bsafety%26imgcolor%3Dblack%26imgtbs%3Dcl%26gbv%3D2%26hl%3Den%26safe%3Dstric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657600" cy="361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48360" y="312408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45720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ndy"/>
              </a:rPr>
              <a:t>General Theatre Saf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038480"/>
            <a:ext cx="51818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y"/>
              </a:rPr>
              <a:t>By: Jacey Si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y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ndy"/>
              </a:rPr>
              <a:t>John Plu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princeton.edu/sites/ehs/theatersafety/intro.htm#E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66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ogl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0481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ing-theatre-hillsboro.teach-nolog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4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logan4u.com/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809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orldlingo.com/en/products_services/worldlingo_translat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632520"/>
            <a:ext cx="5891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AL THEATRE SAFETY, you can't live without i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 you should do to be safe in a theatre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b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e sure you know where a exit is incase of a fire or emergenc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74320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8954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f you do have an emergency call 91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2860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333399"/>
            </a:gs>
            <a:gs pos="100000">
              <a:srgbClr val="ff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4572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History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Ever since the Iroquois Theater Fire I think people started being safe. They changed the doors and made the exits more visible to see. We have safety routes. You have to have a first aid kit there at all times even during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Wear the right safety wear . If you spill or get any chemical liquids on you, rinse for 15 minutes at le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167652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101"/>
                </a:solidFill>
                <a:latin typeface="Arial"/>
              </a:rPr>
              <a:t>Remember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fun </a:t>
            </a:r>
            <a:r>
              <a:rPr b="1" lang="en-US" sz="5400" spc="-1" strike="noStrike">
                <a:solidFill>
                  <a:srgbClr val="99ff66"/>
                </a:solidFill>
                <a:latin typeface="Arial"/>
              </a:rPr>
              <a:t>but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be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101"/>
                </a:solidFill>
                <a:latin typeface="Arial"/>
              </a:rPr>
              <a:t>safe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while </a:t>
            </a: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having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fun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!</a:t>
            </a: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!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!</a:t>
            </a:r>
            <a:r>
              <a:rPr b="1" lang="en-US" sz="5400" spc="-1" strike="noStrike">
                <a:solidFill>
                  <a:srgbClr val="bbe0e3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4:12:45Z</dcterms:created>
  <dc:creator> </dc:creator>
  <dc:description/>
  <dc:language>en-US</dc:language>
  <cp:lastModifiedBy> </cp:lastModifiedBy>
  <dcterms:modified xsi:type="dcterms:W3CDTF">2009-09-18T14:47:17Z</dcterms:modified>
  <cp:revision>3</cp:revision>
  <dc:subject/>
  <dc:title>Slide 1</dc:title>
</cp:coreProperties>
</file>